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538-4B1D-4836-9F38-36EEBE9C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189-71D4-48E6-9B86-DBB7AF2D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259-C8FE-453A-8EBD-61A8DBA0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634-0B04-4CA7-B44D-A3B6E089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88B-60E7-4A34-A193-47706161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B4E-4110-4348-8C24-3FEE7F92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5C2-4867-45E7-B432-C88522AC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C49-0AB4-4441-AFB8-7CDDBBB1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79D-2780-4D8A-8F40-FD137E5B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39C-5566-487F-9143-3F7CB1C3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141-AD7F-4662-ADEA-81B8F176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34C-3DFD-44FE-8F89-61106940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DD83-CB6A-4F4A-B76F-5D07EBEEA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 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Fisher Midg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y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, tone, degree of formality, and 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All of the authors of the short stories we read show a certain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gure of speech in which one thing is spoken of as though it were some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Santiago describes the sharks teeth as knives, but they really 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ief that reality exists independently of observers, whether in philosophy itself or in the applied arts and sci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The whole book “From Moby Dick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ary movement taking place from the 1880s to 1940s that used detailed realism  to suggest that social conditions, heredity, and environment had inescapable force in shaping human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The book “To Build a Fir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Detai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hat show a history in an object, person, o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Captain Ahab’s peg leg shows what had happened on the previous encounter with the wh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nflict is a mental or emotional struggle that occurs within a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Captain Ahab’s hatred towards the 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onflict is a struggle that occurs between a character and outside forces, which could be another character or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In “To Build a Fire”, the character struggles with the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feature exploration, danger, conflicts, strang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“From Moby Dick”- because Ahab goes on the adventure of finding Moby D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that stands for or represents some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Santiago’s eyes stand for his youth even though he is growing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e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in literature found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In “The Old Man and the Sea”, fishing is an archetype because many people around the world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 at the beginning of a ch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There was a quote at the beginning of the short story “Ambus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ary and artistic movement in the early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that placed a premium on imagination, emotion, nature, and individ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“The Old Man and the Sea” is an example of roman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erness Go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primitive, medieval, or wild in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“To Build a Fire” is an example of Wilderness Goth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vity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rrative of someone who is capt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In “To Build a Fire”, the man is basically taken captive by the cold as it won’t let him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y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or speech that appeals to one or more of the five se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When Santiago tells of how the tuna tastes as he is fighting the big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4:15:11Z</dcterms:created>
  <dc:creator>dcsuser</dc:creator>
  <dc:description/>
  <dc:language>en-US</dc:language>
  <cp:lastModifiedBy>FISHER</cp:lastModifiedBy>
  <dcterms:modified xsi:type="dcterms:W3CDTF">2012-03-19T01:20:35Z</dcterms:modified>
  <cp:revision>7</cp:revision>
  <dc:subject/>
  <dc:title>Vocab Review </dc:title>
</cp:coreProperties>
</file>